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881-9DF4-4299-92D7-B548E807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68C-AB4D-4A34-8D31-95CBD7A5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B16-24F1-4E55-BDA8-462E1990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C1A-BAC1-40BC-9809-01108B16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1E6E-D6A6-446F-B8B4-C3989A90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4BF4-EE73-424B-95AD-A7C982EB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9182-CB1E-42C5-B06E-6A7397B8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ED57-449D-4F4F-9ECF-C6CDAADD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18ED-31C7-4E79-B838-10CCB1FC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CB1E-5815-4784-9F69-C7DF2FCB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6C12-14B9-4B0B-9890-FB6D8AD7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3CB-2ECA-4F27-831D-2005138A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672A-C2F9-452E-A916-8C0C5CB2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0D60-F72C-4E2D-893B-C237ABB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ED27-5F0C-4BB9-83A2-B9B4DC6B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28D8-9F1D-4B82-A6DA-2A3A0EDE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3272-FEEE-4D61-BD46-CD7F64D0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CFD-DA11-4F1F-A810-265AA174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352-E3CA-4E61-A1FE-1CB4EF65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9F8-69D5-4964-85A0-96ADF0F5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0E3-9E9C-4D21-8B83-1B74E0BA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7198-B97E-4836-9CF2-0FFFFF1B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9B9-0B1F-4878-AF66-362F1A6C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4CC-2540-4D3E-A1FE-5950BD44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97F3-E3B3-4A61-8502-BF75B634EB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CE50-08CF-4D7A-9693-565601612E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项目二  统计数据的图表描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2637000"/>
            <a:ext cx="77770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力目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根据研究目的进行数据处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利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数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Verdana"/>
                <a:ea typeface="华文新魏"/>
              </a:rPr>
              <a:t>任务引入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企业人事部门为了制定各类管理、技术人员的职业发展计划和调整员工的薪酬待遇，造就一支业务精干的高素质、高境界、具有高度凝聚力和团队精神的人才队伍，并形成以绩效考核为核心导向的人才管理机制。对全体员工作了全面调查。其中，利用调查表取得以下统计数据，如表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-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示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如果你是这个企业的管理人员，现在需要对这些数据进行分组整理并用统计图表予以展示，以便分析揭示企业员工的性别构成，年龄结构，文化素质、专业技术构成以及各变量之间的内在关系，应从何入手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一    用图表展示定性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8440" y="1752480"/>
            <a:ext cx="7819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一、生成频数分布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二、定性数据的图形展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（一）条形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（二）饼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二   用图表展示定量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一、生成频数分布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定量数据的分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计算全距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确定组数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K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确定组距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d=R/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确定组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二   用图表展示定量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二、定量数据的图形展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一）直方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二）饼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三）线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四）散点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三   用图表展示相关联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一、相关联数据的判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二、变量因果关系的确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07:51:28Z</dcterms:created>
  <dc:creator>雨林木风</dc:creator>
  <dc:description/>
  <dc:language>en-US</dc:language>
  <cp:lastModifiedBy>hl</cp:lastModifiedBy>
  <dcterms:modified xsi:type="dcterms:W3CDTF">2013-10-13T16:31:03Z</dcterms:modified>
  <cp:revision>10</cp:revision>
  <dc:subject/>
  <dc:title>项目二  统计数据整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